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E23-1C98-48CD-B4A3-48875DF7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B54F-120B-430C-B727-3175674D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C5D-C88C-45C4-A284-2DEC84EF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149-E4F3-4850-9B0E-49FADD42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9FD0-327C-4446-89A1-68901EA6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E4B9-1437-48AD-BDF5-11485A0D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E576-DC30-49FA-983E-DA89244B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D090-E56E-48A7-B93F-9CC8DB9D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CA77-B16B-411E-A8AF-F8092687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D2FB-DFFB-415E-8812-B58F278D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354A-35CE-4056-B98C-4C2C6366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E96-BFC6-413B-853D-A1488705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BDB1-82C6-409E-9063-B75AC0F8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C6BB-6B66-4C97-9330-5F286BD1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94E5-4D9C-4651-91CF-F02874FB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99B2-680D-470D-85DB-45FD7B9A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149B-F1D7-4939-974D-98C79142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4BEDF-D8EB-491B-AC92-4C3C6769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F3631-FDF7-4A29-A2EF-3A506E61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F4821-D408-402A-9666-D13825BA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9C294-9491-4A17-922C-BE301E54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23F78-D614-4302-85E3-049A95C2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FAC2-AF89-44B0-B10D-9299FBA9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93EF9-9508-415C-813F-6AAE03F9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18058-E2E6-4E60-A88E-0239D0F8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5EDB3-43AB-4580-A929-7CFFD220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0F675-BEAB-45B2-81C5-0B222402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8097B-5CB8-49F5-A12F-187684D2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0B805-A22B-4E34-8CB9-7CC07617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F0E65-41B5-4720-829A-21D1649B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00456-7532-4BE4-8B99-C591D8A3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DB9C0-3544-4761-AE7D-7784FC32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E3121-198D-47A2-AA62-2C9A88F3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27A-74F6-49CE-93F6-9B086547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37E0A-B083-4FBE-8615-1DB90D40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FBC48-1099-4A7E-9328-8AA1EA0B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789BD-8ACB-41F1-AEA8-857B3BF5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1B7A5-CAAF-4A3A-9349-1F448B21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A8FCC-92B5-4010-B0E4-25DBEFA0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F3EEC-EA7E-4101-926C-2B71242C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569DC-E467-4AE8-B965-D3890477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EAFBC-8026-4235-908E-39A80089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54C9A-8BFD-4F62-AF9A-4F712115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58DD-32A8-4427-9976-1F29E793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14F-6A96-42BF-8949-1BB3DACC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51D-E4AF-406B-8F3D-580A881B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7AB-C2D3-470B-8546-2446406F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C2DD-D8EF-45CE-AA6A-4997DEBF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E1BC-B909-4366-92DA-966C8EF6589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B816-E218-499D-98D4-2504ADDA6784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C416-C621-4381-973C-467D2D77B7CF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28B6-64D3-48C7-ADB8-17B631B15DE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2B40-A66C-4952-BC3B-E2BFC2BCE7B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1916280"/>
            <a:ext cx="7200720" cy="23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рмативно-правовое обеспечение педагогической аттестации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рмы и процедуры аттестации педагогических кадров Республики Татарстан в 2014 году</a:t>
            </a:r>
            <a:br>
              <a:rPr sz="2800"/>
            </a:br>
            <a:r>
              <a:rPr b="0" lang="ru-RU" sz="2500" spc="-1" strike="noStrike">
                <a:solidFill>
                  <a:srgbClr val="0000ff"/>
                </a:solidFill>
                <a:latin typeface="Calibri"/>
              </a:rPr>
              <a:t>        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7272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Министерство образования и науки Республики Татарст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Скругленный прямоугольник 15"/>
          <p:cNvSpPr/>
          <p:nvPr/>
        </p:nvSpPr>
        <p:spPr>
          <a:xfrm>
            <a:off x="3780000" y="4208400"/>
            <a:ext cx="5040000" cy="2139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коллаж2"/>
          <p:cNvPicPr/>
          <p:nvPr/>
        </p:nvPicPr>
        <p:blipFill>
          <a:blip r:embed="rId1"/>
          <a:stretch/>
        </p:blipFill>
        <p:spPr>
          <a:xfrm>
            <a:off x="395280" y="3857760"/>
            <a:ext cx="8462880" cy="2786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8" descr="Герб Республики Татарстан"/>
          <p:cNvPicPr/>
          <p:nvPr/>
        </p:nvPicPr>
        <p:blipFill>
          <a:blip r:embed="rId2"/>
          <a:stretch/>
        </p:blipFill>
        <p:spPr>
          <a:xfrm>
            <a:off x="324000" y="255600"/>
            <a:ext cx="151128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F19B-CC19-4F4D-B7C9-19F1B31E18B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208080" y="136440"/>
            <a:ext cx="878508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UI Semibold"/>
              </a:rPr>
              <a:t>Методика  оценки квалифик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UI Semibold"/>
              </a:rPr>
              <a:t>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Квалификация- совокупность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6 основных компетент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области личностных кач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  в   постановке   целей   и  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мотивировании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разработке программы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и принятии педагогически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    в     обеспечении     информаци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сновы педагог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организации педагогической деятельности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Заголовок 2"/>
          <p:cNvSpPr/>
          <p:nvPr/>
        </p:nvSpPr>
        <p:spPr>
          <a:xfrm>
            <a:off x="476280" y="1047600"/>
            <a:ext cx="8516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8D08-F101-46DB-BEEC-1B211811E6C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"/>
          <p:cNvSpPr/>
          <p:nvPr/>
        </p:nvSpPr>
        <p:spPr>
          <a:xfrm>
            <a:off x="324000" y="260280"/>
            <a:ext cx="8461080" cy="6004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Заголовок 2"/>
          <p:cNvSpPr/>
          <p:nvPr/>
        </p:nvSpPr>
        <p:spPr>
          <a:xfrm>
            <a:off x="395280" y="765000"/>
            <a:ext cx="8516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ттестация для присвоения квалификационных категорий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первой или высш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95280" y="1989000"/>
            <a:ext cx="842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оводит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 заявлению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едагогических работников  до истечения срока  имеющейся квалификационной категории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Досрочная аттестация  разрешается через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 года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сле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дыдущей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Процедура аттестации</a:t>
            </a:r>
            <a:r>
              <a:rPr b="1" i="1" lang="ru-RU" sz="28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экспертная оц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8A0A-DA1E-48BD-9BA0-EE4F3CF52B4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179280" y="189000"/>
            <a:ext cx="8605800" cy="629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ребования  для присвоения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первой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атегори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табильные положительные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своения обуч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бразовательны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-выявления развития у обучающихся спосо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к научной (интеллектуальной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ворческой, физкультурно-спортив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личного вклада в повышение качества образов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овершенствования методов обучения и воспит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ранслирования в педагог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коллективах опыта практически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воей профессиональной 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активного участия в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методических объединений педагогических работ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Заголовок 2"/>
          <p:cNvSpPr/>
          <p:nvPr/>
        </p:nvSpPr>
        <p:spPr>
          <a:xfrm>
            <a:off x="395280" y="404640"/>
            <a:ext cx="85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ово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требов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A85F-DA3A-47F3-9D1C-2F7E88567A7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3"/>
          <p:cNvSpPr/>
          <p:nvPr/>
        </p:nvSpPr>
        <p:spPr>
          <a:xfrm>
            <a:off x="324000" y="189000"/>
            <a:ext cx="846108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ребования для присвоения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ысшей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наличие  первой катего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участие воспитаннико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 всероссийских олимпиад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онкурсах, соревнованиях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транслирования в педагогических коллекти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опыта практически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ктивное распространение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нновационного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пы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о повышению  качества обучения и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Заголовок 2"/>
          <p:cNvSpPr/>
          <p:nvPr/>
        </p:nvSpPr>
        <p:spPr>
          <a:xfrm>
            <a:off x="395280" y="404640"/>
            <a:ext cx="8516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ово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требов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5827-8975-455F-881A-616232F6F12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293760" y="174600"/>
            <a:ext cx="8461440" cy="6546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UI Semibold"/>
              </a:rPr>
              <a:t>Работник </a:t>
            </a:r>
            <a:r>
              <a:rPr b="1" lang="ru-RU" sz="2400" spc="-1" strike="noStrike">
                <a:solidFill>
                  <a:srgbClr val="0000ff"/>
                </a:solidFill>
                <a:latin typeface="Segoe UI Semibold"/>
              </a:rPr>
              <a:t>подает в комиссию лич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Заявление по установлен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правка о профессиональном тестиро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(работник проходит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ранее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3. Копия аттестационного листа или друг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окумента по итогам предыдущей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ля 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Готовят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ксперты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на аттестуемого работник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3c6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Экспертное заключение, экспертный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Заголовок 2"/>
          <p:cNvSpPr/>
          <p:nvPr/>
        </p:nvSpPr>
        <p:spPr>
          <a:xfrm>
            <a:off x="395280" y="404640"/>
            <a:ext cx="8516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Перечень документов при аттестации на категорию (первую  или высшую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02944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 u="sng">
                <a:solidFill>
                  <a:srgbClr val="9900ff"/>
                </a:solidFill>
                <a:uFillTx/>
                <a:latin typeface="Calibri"/>
              </a:rPr>
              <a:t>Тестирование проводится:</a:t>
            </a:r>
            <a:br>
              <a:rPr sz="3100"/>
            </a:br>
            <a:br>
              <a:rPr sz="2800"/>
            </a:br>
            <a:r>
              <a:rPr b="0" lang="ru-RU" sz="2600" spc="-1" strike="noStrike">
                <a:solidFill>
                  <a:srgbClr val="9900ff"/>
                </a:solidFill>
                <a:latin typeface="Calibri"/>
              </a:rPr>
              <a:t>- в формате  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ЕГЭ, ЕРЭ </a:t>
            </a:r>
            <a:r>
              <a:rPr b="0" lang="ru-RU" sz="2600" spc="-1" strike="noStrike">
                <a:solidFill>
                  <a:srgbClr val="9900ff"/>
                </a:solidFill>
                <a:latin typeface="Calibri"/>
              </a:rPr>
              <a:t>-  </a:t>
            </a:r>
            <a:r>
              <a:rPr b="0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в РЦМКО (8843)223-09-17)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9900ff"/>
                </a:solidFill>
                <a:latin typeface="Calibri"/>
              </a:rPr>
              <a:t>- 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компьютерное тестирование</a:t>
            </a:r>
            <a:br>
              <a:rPr sz="2600"/>
            </a:br>
            <a:r>
              <a:rPr b="0" lang="ru-RU" sz="2600" spc="-1" strike="noStrike">
                <a:solidFill>
                  <a:srgbClr val="9900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педагогов и директоров – в системе «Электронное образование» (руководство  по тестированию на сайте МО и Н РТ)</a:t>
            </a:r>
            <a:br>
              <a:rPr sz="2600"/>
            </a:br>
            <a:br>
              <a:rPr sz="2600"/>
            </a:br>
            <a:br>
              <a:rPr sz="2800"/>
            </a:b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67690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Зачетный миниму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76360" y="1989000"/>
            <a:ext cx="66960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На первую категорию –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70</a:t>
            </a: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 балл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На высшую категорию –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80</a:t>
            </a: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 балл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  нехватке - 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балла </a:t>
            </a: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бавляются автоматичес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2740-F0FA-4ADD-882A-49116EE176E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0BFC-D0E4-402E-965E-5A5D0AB9960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250920" y="333360"/>
            <a:ext cx="856908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РГАНИЗАЦИЯ ЗАЯВИТЕЛЬ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ТТЕС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 2014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539640" y="981000"/>
            <a:ext cx="828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втоматизированная информационная система электронного документооборота «Аттестация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Электронном образов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частники взаимоотношений в 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ИС «АТТЕСТАЦИЯ» (по уровням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55520" y="155736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163440" y="3957480"/>
            <a:ext cx="52578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ОТВЕТСТВЕННЫЙ ЗА АТТЕСТАЦИЮ В РАЙ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(СПЕЦИАЛИСТ, МЕТОДИСТ ОТДЕЛА ОБРАЗО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>
            <a:off x="53640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136440" y="2860560"/>
            <a:ext cx="5256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ОТВЕТСТВЕННЫЙ ЗА АТТЕСТАЦИЮ В 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(ЗАМ. ДИРЕКТ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 flipH="1">
            <a:off x="6734160" y="3068640"/>
            <a:ext cx="2160720" cy="8625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МОиН 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179280" y="5589720"/>
            <a:ext cx="5256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АТТЕСТАЦИОННАЯ КОМИС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(МОиН 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>
            <a:off x="543564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-360" y="3141720"/>
            <a:ext cx="3924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В статье </a:t>
            </a:r>
            <a:r>
              <a:rPr b="1" lang="ru-RU" sz="2200" spc="-1" strike="noStrike">
                <a:solidFill>
                  <a:srgbClr val="0d29b3"/>
                </a:solidFill>
                <a:latin typeface="Arial Narrow"/>
              </a:rPr>
              <a:t>«Строительство справедливости. Социальная политика для России»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В.В. Путин обратил внимание на необходимость выхода на </a:t>
            </a:r>
            <a:r>
              <a:rPr b="1" lang="ru-RU" sz="2200" spc="-1" strike="noStrike">
                <a:solidFill>
                  <a:srgbClr val="990000"/>
                </a:solidFill>
                <a:latin typeface="Arial Narrow"/>
              </a:rPr>
              <a:t>ЭФФЕКТИВНЫЙ КОНТРАКТ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с педагогическими работникам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4" descr="http://phapluattp2.vcmedia.vn/Rpg7DiB2SyW22i2esZK04OmnfDjccc/Image/2012/03/24/putinl_eb23d.jpg"/>
          <p:cNvPicPr/>
          <p:nvPr/>
        </p:nvPicPr>
        <p:blipFill>
          <a:blip r:embed="rId1"/>
          <a:stretch/>
        </p:blipFill>
        <p:spPr>
          <a:xfrm>
            <a:off x="4140360" y="1197000"/>
            <a:ext cx="4557600" cy="3168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3" name="Picture 18" descr="http://belnovosti.ru/files/styles/thumbnail/public/news/13043_26547.jpg?itok=3v7uS_cs"/>
          <p:cNvPicPr/>
          <p:nvPr/>
        </p:nvPicPr>
        <p:blipFill>
          <a:blip r:embed="rId2"/>
          <a:stretch/>
        </p:blipFill>
        <p:spPr>
          <a:xfrm rot="19682400">
            <a:off x="6455880" y="4308120"/>
            <a:ext cx="2433600" cy="16542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4" name="Picture 20" descr="http://www.edinros-arz.ru/files/photo/news/news_43_1_1.jpg"/>
          <p:cNvPicPr/>
          <p:nvPr/>
        </p:nvPicPr>
        <p:blipFill>
          <a:blip r:embed="rId3"/>
          <a:srcRect l="0" t="0" r="30975" b="51797"/>
          <a:stretch/>
        </p:blipFill>
        <p:spPr>
          <a:xfrm>
            <a:off x="4140360" y="4581360"/>
            <a:ext cx="3024000" cy="15843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880"/>
            <a:ext cx="784872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Эффективный контракт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Прямоугольник 15"/>
          <p:cNvSpPr/>
          <p:nvPr/>
        </p:nvSpPr>
        <p:spPr>
          <a:xfrm>
            <a:off x="324000" y="981000"/>
            <a:ext cx="36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Одним из ключевых направлений государственной политики является </a:t>
            </a:r>
            <a:r>
              <a:rPr b="1" lang="ru-RU" sz="2200" spc="-1" strike="noStrike">
                <a:solidFill>
                  <a:srgbClr val="990000"/>
                </a:solidFill>
                <a:latin typeface="Arial Narrow"/>
              </a:rPr>
              <a:t>развитие педагогического кадрового потенци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в ИС «АТТЕСТАЦИЯ»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154080" y="1533600"/>
            <a:ext cx="5257800" cy="176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ходит в свой кабинет в Электронном обра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через логин, паро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 октября каждого текущего года начало аттестационных процеду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120600" y="4862520"/>
            <a:ext cx="525636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  <a:ea typeface="Arial"/>
              </a:rPr>
              <a:t>Отслеживает (при необходимости) на какой стадии находится д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осле направления дело экспертам, доступ к личному делу должен быть закры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5580000" y="1773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53640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108000" y="3308400"/>
            <a:ext cx="52560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сентябре месяце каждого текущего года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заполняет заявление (электронная форма – пересылается в личное дело аттестуемого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4617b"/>
                </a:solidFill>
                <a:latin typeface="Arial"/>
              </a:rPr>
              <a:t>Заявка на тест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"/>
          <p:cNvSpPr/>
          <p:nvPr/>
        </p:nvSpPr>
        <p:spPr>
          <a:xfrm flipH="1">
            <a:off x="6732000" y="3235320"/>
            <a:ext cx="2160360" cy="15112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onstantia"/>
              </a:rPr>
              <a:t>ПЕДАГ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8"/>
          <p:cNvSpPr/>
          <p:nvPr/>
        </p:nvSpPr>
        <p:spPr>
          <a:xfrm>
            <a:off x="5376960" y="522936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 ИС «АТТЕСТАЦИЯ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179280" y="134136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формляет лист самооценки (автоматически)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2015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179280" y="458136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Заполняет электронную форму аттестационного л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8"/>
          <p:cNvSpPr/>
          <p:nvPr/>
        </p:nvSpPr>
        <p:spPr>
          <a:xfrm flipH="1">
            <a:off x="536400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141120" y="3078000"/>
            <a:ext cx="5330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кладывает электронную форму (скан) подтверждающих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 flipH="1">
            <a:off x="6732000" y="3068640"/>
            <a:ext cx="2160360" cy="13262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Педаг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>
            <a:off x="543564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179280" y="458136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олняет электронную форму карты результа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в ИС «АТТЕСТАЦИЯ»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179280" y="134136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яет  аттестационное дело (заявле-ние аттестуемого учи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65040" y="4397400"/>
            <a:ext cx="5257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Аттестационного листа не бу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8"/>
          <p:cNvSpPr/>
          <p:nvPr/>
        </p:nvSpPr>
        <p:spPr>
          <a:xfrm flipH="1">
            <a:off x="5398920" y="2627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 flipH="1">
            <a:off x="6732000" y="3068640"/>
            <a:ext cx="2160360" cy="16311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Заместитель директора О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252360" y="5157720"/>
            <a:ext cx="5254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яет аттестационное дело, в «Отдел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8"/>
          <p:cNvSpPr/>
          <p:nvPr/>
        </p:nvSpPr>
        <p:spPr>
          <a:xfrm>
            <a:off x="5398920" y="455940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179280" y="2421000"/>
            <a:ext cx="525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Прикладывает электронную фор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179280" y="2421000"/>
            <a:ext cx="525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яет,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то подлежит эксперти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141120" y="328464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ает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 электронную форму карты результативности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то не подлежит эксперти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в ИС «АТТЕСТАЦИЯ»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154080" y="1533600"/>
            <a:ext cx="5257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ает график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пертов (направляет экспертов к учителю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120600" y="4862520"/>
            <a:ext cx="5256360" cy="183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еряет документы. Определяет экспертов. Открывает доступ к документам аттестумых экспер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яет дело в аттестационную комис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5"/>
          <p:cNvSpPr/>
          <p:nvPr/>
        </p:nvSpPr>
        <p:spPr>
          <a:xfrm>
            <a:off x="5580000" y="1773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8"/>
          <p:cNvSpPr/>
          <p:nvPr/>
        </p:nvSpPr>
        <p:spPr>
          <a:xfrm flipH="1">
            <a:off x="53640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108000" y="3308400"/>
            <a:ext cx="5256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яет документы на соответствие требованиям к катего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 flipH="1">
            <a:off x="6804000" y="3357720"/>
            <a:ext cx="2160720" cy="1008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Специалист отдела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5376960" y="522936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в ИС «АТТЕСТАЦИЯ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79280" y="1484280"/>
            <a:ext cx="5257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держивает АС в актуальном состоя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179280" y="458136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Обеспечивает организацию  работы экспертных комиссий 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8"/>
          <p:cNvSpPr/>
          <p:nvPr/>
        </p:nvSpPr>
        <p:spPr>
          <a:xfrm flipH="1">
            <a:off x="536400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 flipH="1">
            <a:off x="6734160" y="3068640"/>
            <a:ext cx="2160720" cy="13136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Электронное образование Республики Татар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179280" y="5589720"/>
            <a:ext cx="5256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ует в системе  аттестационные документы к заседанию АК МОиН РТ, проводит мониторинг по итогам проведения аттес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8"/>
          <p:cNvSpPr/>
          <p:nvPr/>
        </p:nvSpPr>
        <p:spPr>
          <a:xfrm>
            <a:off x="543564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179280" y="2565360"/>
            <a:ext cx="5256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ивает научно-методическое сопровождение аттест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8"/>
          <p:cNvSpPr/>
          <p:nvPr/>
        </p:nvSpPr>
        <p:spPr>
          <a:xfrm>
            <a:off x="5364000" y="3933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179280" y="364500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Проверяет документы на соответствие требованиям Н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в ИАС «АТТЕСТАЦИЯ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155520" y="155736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одит заседание 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333360" y="407664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мещает документы по итогам  аттестации на своем «сайт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536400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136440" y="2860560"/>
            <a:ext cx="52563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ПРИНИМАЕТ РЕШЕНИЕ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ОКАЛЬНЫЙ 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 flipH="1">
            <a:off x="6736680" y="3068640"/>
            <a:ext cx="2160360" cy="147240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Аттестацион-ная комиссия МОиН 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179280" y="5300640"/>
            <a:ext cx="5256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Дает указание по завершению аттестационного дела и передачи дела в арх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8"/>
          <p:cNvSpPr/>
          <p:nvPr/>
        </p:nvSpPr>
        <p:spPr>
          <a:xfrm>
            <a:off x="543564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Этапы прохождения документов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ча заявления. Заявка на тестировани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ление аттестационного дела (статус «формирование аттест.дела»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а атт.дела в отдел образования и его проверка(статус «аттестационное дело сформировано»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а дела 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татус «аттестац.дело ожидает подтверждения»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ние дел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ринятие решения (статус «аттест.дело рассмотрено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ка распорядительного акта (статус « соответствует /не соответствует «заявленной» категори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887E-3972-4B84-8293-73A799002E7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3"/>
          <p:cNvSpPr/>
          <p:nvPr/>
        </p:nvSpPr>
        <p:spPr>
          <a:xfrm>
            <a:off x="250920" y="333360"/>
            <a:ext cx="856908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РГАНИЗАЦИЯ ЗАЯВИТЕЛЬНОЙ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. Предварительный этап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прохождение работником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рофессион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тестирования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(компьютерного или в формате ЕГЭ) С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подача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заявления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 на аттестацию (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то прошел в 2010 году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подготовка для экспертов листа само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. Подача документов через 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3. Издание приказа МО и Н РТ о провед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4. Проведени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кспертизы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по месту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ттестуемого педагог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201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5. Заполнение экспертных заключений в 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6. Проведение заседания АК МОиН 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5. Издани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каза МОиН РТ об итогах аттест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оформление и выдача аттестационных листов отмен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5A54-D72C-4B83-802E-FBAE0A076A4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3"/>
          <p:cNvSpPr/>
          <p:nvPr/>
        </p:nvSpPr>
        <p:spPr>
          <a:xfrm>
            <a:off x="250920" y="162000"/>
            <a:ext cx="806616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лгоритм проведения эксперти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Экспертные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комиссии определяют состав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экспертных групп для утверждения приказ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МО и Н Р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Независимые эксперты проводят экспертиз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профессиональных результатов, анализиру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уроки, сопоставляют  свои выводы с лист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самооценки аттестуемого  педагога, готовят экспертно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заключени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3. Экспертные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комиссии контролируют оформл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экспертного заключения  в ИС передают коп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в МОиН РТ для опла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ff"/>
                </a:solidFill>
                <a:latin typeface="Times New Roman"/>
              </a:rPr>
              <a:t>На 2015 год включить в бюджет оплату экспер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9927-7E6F-4BDA-879E-5DECE8017F0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50920" y="333360"/>
            <a:ext cx="8497800" cy="6191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езависимые эксперты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 направля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 педагогическим работник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(при повторной аттеста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ри наличии у н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достижений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на профессиональны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конкурсах, предметных олимпиадах и др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государственных, отраслевых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награ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К руководящим работникам, аттестуем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по педагогическим должностям </a:t>
            </a:r>
            <a:r>
              <a:rPr b="1" lang="ru-RU" sz="3000" spc="-1" strike="noStrike">
                <a:solidFill>
                  <a:srgbClr val="ff00ff"/>
                </a:solidFill>
                <a:latin typeface="Times New Roman"/>
              </a:rPr>
              <a:t>, </a:t>
            </a: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независим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эксперты направляются обязательно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ru-RU" sz="3600" spc="-1" strike="noStrike">
                <a:solidFill>
                  <a:srgbClr val="0f6fc6"/>
                </a:solidFill>
                <a:latin typeface="Times New Roman"/>
              </a:rPr>
              <a:t>Федеральный </a:t>
            </a:r>
            <a:r>
              <a:rPr b="0" lang="ru-RU" sz="3200" spc="-1" strike="noStrike">
                <a:solidFill>
                  <a:srgbClr val="0f6fc6"/>
                </a:solidFill>
                <a:latin typeface="Times New Roman"/>
              </a:rPr>
              <a:t>Закон</a:t>
            </a:r>
            <a:br>
              <a:rPr sz="3200"/>
            </a:br>
            <a:r>
              <a:rPr b="1" lang="ru-RU" sz="4000" spc="-1" strike="noStrike">
                <a:solidFill>
                  <a:srgbClr val="0f6fc6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«Об образовании в Российской Федерации»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11280" y="2707920"/>
            <a:ext cx="8353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атья 49. Аттестация педагогических работников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83EE-FAD4-401B-B198-F868E32B07D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7000-CA58-45B7-A14F-ACD3C5A6525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2640" y="44892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Важно!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1699920"/>
            <a:ext cx="7705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Constantia"/>
              </a:rPr>
              <a:t>Для </a:t>
            </a:r>
            <a:r>
              <a:rPr b="1" lang="ru-RU" sz="2600" spc="-1" strike="noStrike">
                <a:solidFill>
                  <a:srgbClr val="ff3300"/>
                </a:solidFill>
                <a:latin typeface="Constantia"/>
              </a:rPr>
              <a:t>высшей </a:t>
            </a:r>
            <a:r>
              <a:rPr b="1" lang="ru-RU" sz="2600" spc="-1" strike="noStrike">
                <a:solidFill>
                  <a:srgbClr val="003399"/>
                </a:solidFill>
                <a:latin typeface="Constantia"/>
              </a:rPr>
              <a:t>категории  дополнительно проводится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экспертиза инновационных разработок, если отсутствует инновационная деятельность аттестуемы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в рамках методических конкурсов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научно</a:t>
            </a:r>
            <a:r>
              <a:rPr b="1" lang="en-US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–практических</a:t>
            </a:r>
            <a:r>
              <a:rPr b="1" lang="en-US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конференц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республиканского,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федерального,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международного уров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67676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еречень документов необходимы для ИС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1628640"/>
            <a:ext cx="763272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Constantia"/>
              </a:rPr>
              <a:t>Заявлени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Аттестационный лист старый для высшей категор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Карта результативности профессиональной деятельности для все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Заключение экспертиз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Удостоверение о курсах , заверенны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Рецензия или отзыв на  авторские разработки ( или  документ об участии в методическом конкурсе республиканского уровня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Подтверждающий документ об участии детей в олимпиадах, конкурсах, соревнованиях   всероссийского уровня или в региональном этапе данных мероприяти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F493-AB17-4555-832B-C566B9B7932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250920" y="260280"/>
            <a:ext cx="7921440" cy="630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1680" indent="-57168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каз Министерства образов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 науки Республики Татарст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«О проведении аттестации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едагогических работ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образовательных учрежд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Республики Татарстан  в 2014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г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468360" y="260280"/>
            <a:ext cx="7947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onotype Corsiva"/>
                <a:ea typeface="Andalus"/>
              </a:rPr>
              <a:t>Региональные нормативные доку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C57F-34B6-447A-AD09-7E3C6EBB068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Calibri"/>
              </a:rPr>
              <a:t>НОРМАТИВНЫЕ АКТЫ МО  и  Н  РТ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О и Н РТ </a:t>
            </a: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№ 4231/14 от 25.07.2014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. «Об утверждении Административного регламента по проведению аттестации педагогических  работников  Республики Татарстан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О и Н РТ  «Об утвержден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  об экспертной комиссии по муниципальному образованию Республики Татарстан»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2F5C-E41F-4E37-BAF0-37112D05F29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00"/>
                </a:solidFill>
                <a:latin typeface="Calibri"/>
              </a:rPr>
              <a:t>НОРМАТИВНЫЕ АКТЫ МО  и  Н  РТ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иказ МО и Н РТ №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3669/14 от 14 июля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2014 г. «Об утверждении Положения о формах и процедурах аттестации педагогических работников РТ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74A1-DA0B-4234-8983-A9A85ECF033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"/>
          <p:cNvSpPr/>
          <p:nvPr/>
        </p:nvSpPr>
        <p:spPr>
          <a:xfrm>
            <a:off x="250920" y="476280"/>
            <a:ext cx="8642160" cy="5977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ГИОНАЛЬНЫЕ  НОРМАТИВНЫЕ  А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траслевое Соглашение между МО и Н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 Татарским рескомом профсоюза работ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ародного образования и науки на 2014-2016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иложение №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« Права и льготы работников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Республики Татарст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и подготовке и проведении аттестации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Отраслевое соглашение  с  профсоюзом работников образования</a:t>
            </a:r>
            <a:endParaRPr b="0" lang="en-US" sz="2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1412640"/>
            <a:ext cx="806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- основания дл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ереноса сроков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аттестации на подтверждение СЗД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именени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прощенных форм экспертизы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и наличии заслуг, отраслевых и государственных наград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хранение  квалификационных категорий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а разных должностях (учебных предметах 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6957-E92A-487D-96B7-142657FA973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6ACD-9AD6-4F1A-BDE0-072BA07C6C0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81378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                            </a:t>
            </a:r>
            <a:br>
              <a:rPr sz="2500"/>
            </a:br>
            <a:r>
              <a:rPr b="1" lang="ru-RU" sz="2500" spc="-1" strike="noStrike">
                <a:solidFill>
                  <a:srgbClr val="ff3300"/>
                </a:solidFill>
                <a:latin typeface="Times New Roman"/>
              </a:rPr>
              <a:t>ЗАЯВИТЕЛЬНАЯ  АТТЕСТАЦИЯ НА  ПЕРВУЮ  И ВЫСШУЮ  КАТЕГОРИЮ в 2014 г.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Constantia"/>
              </a:rPr>
              <a:t>Октябрь 2014 </a:t>
            </a:r>
            <a:r>
              <a:rPr b="1" lang="ru-RU" sz="2900" spc="-1" strike="noStrike">
                <a:solidFill>
                  <a:srgbClr val="000000"/>
                </a:solidFill>
                <a:latin typeface="Constantia"/>
              </a:rPr>
              <a:t>г.</a:t>
            </a:r>
            <a:r>
              <a:rPr b="0" lang="ru-RU" sz="2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ентрализованный прием в ИС заявлений на аттестацию работников, у которых срок действия квалификационных категорий заканчивается в 2015 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Ноябрь </a:t>
            </a:r>
            <a:r>
              <a:rPr b="1" lang="ru-RU" sz="2900" spc="-1" strike="noStrike">
                <a:solidFill>
                  <a:srgbClr val="0000ff"/>
                </a:solidFill>
                <a:latin typeface="Constantia"/>
              </a:rPr>
              <a:t>2014 г</a:t>
            </a:r>
            <a:r>
              <a:rPr b="0" lang="ru-RU" sz="2900" spc="-1" strike="noStrike">
                <a:solidFill>
                  <a:srgbClr val="0000ff"/>
                </a:solidFill>
                <a:latin typeface="Constanti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работа экспертных групп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Декабрь 2014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г</a:t>
            </a: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направление договоров на экспертов в МО и Н Р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2792-476C-41F3-9B3A-4A09110059C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"/>
          <p:cNvSpPr/>
          <p:nvPr/>
        </p:nvSpPr>
        <p:spPr>
          <a:xfrm>
            <a:off x="179280" y="189000"/>
            <a:ext cx="8785440" cy="6408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ttp//www.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on.tatar.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ff"/>
                </a:solidFill>
                <a:uFillTx/>
                <a:latin typeface="Times New Roman"/>
              </a:rPr>
              <a:t>Раздел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ff"/>
                </a:solidFill>
                <a:uFillTx/>
                <a:latin typeface="Times New Roman"/>
              </a:rPr>
              <a:t>«Педагогическая аттестация»</a:t>
            </a:r>
            <a:r>
              <a:rPr b="0" lang="ru-RU" sz="44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ff"/>
                </a:solidFill>
                <a:latin typeface="Times New Roman"/>
              </a:rPr>
              <a:t>Тел. 294-95-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468360" y="260280"/>
            <a:ext cx="794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Сайт Министерства образования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 науки Республики Татарс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Объект 3" descr=""/>
          <p:cNvPicPr/>
          <p:nvPr/>
        </p:nvPicPr>
        <p:blipFill>
          <a:blip r:embed="rId1"/>
          <a:stretch/>
        </p:blipFill>
        <p:spPr>
          <a:xfrm>
            <a:off x="457200" y="390600"/>
            <a:ext cx="832176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Calibri"/>
              </a:rPr>
              <a:t>Основополагающие  документы для проведения аттестаци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Объект 3" descr=""/>
          <p:cNvPicPr/>
          <p:nvPr/>
        </p:nvPicPr>
        <p:blipFill>
          <a:blip r:embed="rId1"/>
          <a:stretch/>
        </p:blipFill>
        <p:spPr>
          <a:xfrm>
            <a:off x="469800" y="1414440"/>
            <a:ext cx="82962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93FF-5253-4B24-BB57-2F22EC78990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900000" y="189000"/>
            <a:ext cx="7272360" cy="6056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каз МО и Н 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 07 апреля 2014 г. № 2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«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 порядке проведения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педагогических 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рганизаций, осуществляющ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бразовательную  деятельность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324000" y="495360"/>
            <a:ext cx="78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Times New Roman"/>
              </a:rPr>
              <a:t>Федеральные документы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2FAE-8579-4E88-AA28-4D94C372E87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"/>
          <p:cNvSpPr/>
          <p:nvPr/>
        </p:nvSpPr>
        <p:spPr>
          <a:xfrm>
            <a:off x="179280" y="184320"/>
            <a:ext cx="871380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каз  Министерства здравоохра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 социального развития   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 26 августа 2010 г.  №761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«Об утверждении Еди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квалификационного справоч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руководителей, специалистов и служащ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Раздел «Квалификационные характерис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должностей работников образования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60280"/>
            <a:ext cx="816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Times New Roman"/>
              </a:rPr>
              <a:t>Федеральные доку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04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едеральные документ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150560" y="1341360"/>
            <a:ext cx="799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Письмо Департамента общего образовани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МО и Н РФ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nstantia"/>
              </a:rPr>
              <a:t>от 27.02.2012 г.№ 03-109 </a:t>
            </a: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«О повышении квалификации и аттестации педагогических работников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D372-B507-47A6-B424-66E58718D08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79280" y="260280"/>
            <a:ext cx="864072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ва вида аттестации для педаг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1 вид: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 целью подтвер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ответствия занимаемой дол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а уровне 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2 вид: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для установления соответ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уровня квалификации требов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первой или высш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Заголовок 2"/>
          <p:cNvSpPr/>
          <p:nvPr/>
        </p:nvSpPr>
        <p:spPr>
          <a:xfrm>
            <a:off x="395280" y="476280"/>
            <a:ext cx="8516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Times New Roman"/>
              </a:rPr>
              <a:t>Изменения в порядке аттес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8:01:08Z</dcterms:created>
  <dc:creator>admin</dc:creator>
  <dc:description/>
  <dc:language>en-US</dc:language>
  <cp:lastModifiedBy>Admin</cp:lastModifiedBy>
  <cp:lastPrinted>2014-08-27T17:24:32Z</cp:lastPrinted>
  <dcterms:modified xsi:type="dcterms:W3CDTF">2014-09-15T09:57:26Z</dcterms:modified>
  <cp:revision>243</cp:revision>
  <dc:subject/>
  <dc:title>Слайд 1</dc:title>
</cp:coreProperties>
</file>